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9.wmf" ContentType="image/x-wmf"/>
  <Override PartName="/ppt/media/image8.wmf" ContentType="image/x-wmf"/>
  <Override PartName="/ppt/media/image13.png" ContentType="image/png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5.wmf" ContentType="image/x-wmf"/>
  <Override PartName="/ppt/media/image10.png" ContentType="image/png"/>
  <Override PartName="/ppt/media/image4.wmf" ContentType="image/x-wmf"/>
  <Override PartName="/ppt/media/image3.wmf" ContentType="image/x-wmf"/>
  <Override PartName="/ppt/media/image24.png" ContentType="image/png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1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10CF5-5684-40B7-8CE5-1CC0F4C4C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0FA8A-B879-42F9-83BD-254E3ACF7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44861-90C5-4F9E-84B2-85A287141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B3426-26B7-4B75-B060-AB69CA0C5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6F681-5DFC-495F-AAAD-79076E54D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EDEA1-7D1A-4DE8-9DCE-9278B2B87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616F5-AD22-434A-BE3C-0B7301110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01EB0-8AFA-43A4-A633-DC58A9089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4338E-B552-4DA0-80AB-3F963D920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2CD41-EDB1-4BDB-9302-1DE8BB0A9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640E3-0216-4098-8418-BD5BE1FBD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C8315-F69D-44DB-B64E-73FDAB7C7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0AB33-F26A-4184-9E7A-F0E88A590BB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26920" y="404280"/>
            <a:ext cx="7740720" cy="18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ONNECTIONIST CLASSIFIER SYSTEM BASED ON ACCURACY IN AUTONOMOUS AGENT CONTRO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635280" y="2780640"/>
            <a:ext cx="20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exey Vasily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987640" y="4943520"/>
            <a:ext cx="33829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cision Support Systems Group, Riga Technical University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/4 Meza street, Riga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V-1048, Latv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-mail: servent@apollo.l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i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50920" y="1773360"/>
            <a:ext cx="3213000" cy="32400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0" y="330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478520" y="508464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59240" y="4076640"/>
            <a:ext cx="93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g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953680" y="4076640"/>
            <a:ext cx="1360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gen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v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380360" y="4076640"/>
            <a:ext cx="16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gent sens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979640" y="1773360"/>
            <a:ext cx="1152360" cy="1150920"/>
          </a:xfrm>
          <a:prstGeom prst="rect">
            <a:avLst/>
          </a:prstGeom>
          <a:noFill/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rot="599400">
            <a:off x="2838240" y="1168560"/>
            <a:ext cx="6121080" cy="1081080"/>
          </a:xfrm>
          <a:custGeom>
            <a:avLst/>
            <a:gdLst>
              <a:gd name="textAreaLeft" fmla="*/ 1275120 w 6121080"/>
              <a:gd name="textAreaRight" fmla="*/ 4197240 w 6121080"/>
              <a:gd name="textAreaTop" fmla="*/ 144720 h 1081080"/>
              <a:gd name="textAreaBottom" fmla="*/ 93636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001" hR="21600" stAng="10800000" swAng="5400000"/>
                <a:lnTo>
                  <a:pt x="10311" y="0"/>
                </a:lnTo>
                <a:arcTo wR="9001" hR="21600" stAng="-5400000" swAng="2910984"/>
                <a:lnTo>
                  <a:pt x="21045" y="14132"/>
                </a:lnTo>
                <a:lnTo>
                  <a:pt x="18657" y="21600"/>
                </a:lnTo>
                <a:lnTo>
                  <a:pt x="15159" y="14132"/>
                </a:lnTo>
                <a:lnTo>
                  <a:pt x="17447" y="14132"/>
                </a:lnTo>
                <a:arcTo wR="9001" hR="21600" stAng="-2489016" swAng="-2806493"/>
                <a:lnTo>
                  <a:pt x="9656" y="57"/>
                </a:lnTo>
                <a:arcTo wR="9001" hR="21600" stAng="-5504491" swAng="-5295509"/>
                <a:close/>
              </a:path>
              <a:path fill="darkenLess" w="21600" h="21600">
                <a:moveTo>
                  <a:pt x="0" y="21600"/>
                </a:moveTo>
                <a:arcTo wR="9001" hR="21600" stAng="10800000" swAng="5400000"/>
                <a:lnTo>
                  <a:pt x="9001" y="0"/>
                </a:lnTo>
                <a:arcTo wR="9001" hR="21600" stAng="-5400000" swAng="104491"/>
                <a:lnTo>
                  <a:pt x="9656" y="57"/>
                </a:lnTo>
                <a:arcTo wR="9001" hR="21600" stAng="-5504491" swAng="-5295509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463840" y="2241720"/>
            <a:ext cx="142920" cy="14436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4067280" y="2133720"/>
            <a:ext cx="468612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kov enviro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3492360" y="1197000"/>
            <a:ext cx="4919760" cy="26208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3492360" y="4005360"/>
            <a:ext cx="4911840" cy="26128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755640" y="1989000"/>
            <a:ext cx="1996920" cy="2016360"/>
          </a:xfrm>
          <a:prstGeom prst="rect">
            <a:avLst/>
          </a:prstGeom>
          <a:ln w="0">
            <a:noFill/>
          </a:ln>
        </p:spPr>
      </p:pic>
      <p:grpSp>
        <p:nvGrpSpPr>
          <p:cNvPr id="104" name=""/>
          <p:cNvGrpSpPr/>
          <p:nvPr/>
        </p:nvGrpSpPr>
        <p:grpSpPr>
          <a:xfrm>
            <a:off x="6516720" y="620640"/>
            <a:ext cx="1000080" cy="1440000"/>
            <a:chOff x="6516720" y="620640"/>
            <a:chExt cx="1000080" cy="1440000"/>
          </a:xfrm>
        </p:grpSpPr>
        <p:sp>
          <p:nvSpPr>
            <p:cNvPr id="105" name=""/>
            <p:cNvSpPr/>
            <p:nvPr/>
          </p:nvSpPr>
          <p:spPr>
            <a:xfrm flipH="1">
              <a:off x="6516720" y="907920"/>
              <a:ext cx="504720" cy="115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22160" y="620640"/>
              <a:ext cx="494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XC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7740360" y="2707920"/>
            <a:ext cx="1274040" cy="1357920"/>
            <a:chOff x="7740360" y="2707920"/>
            <a:chExt cx="1274040" cy="1357920"/>
          </a:xfrm>
        </p:grpSpPr>
        <p:sp>
          <p:nvSpPr>
            <p:cNvPr id="108" name=""/>
            <p:cNvSpPr/>
            <p:nvPr/>
          </p:nvSpPr>
          <p:spPr>
            <a:xfrm flipH="1" flipV="1">
              <a:off x="7740360" y="2707920"/>
              <a:ext cx="718920" cy="10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102160" y="3789360"/>
              <a:ext cx="912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XCS+AN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on-Markov environ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3419640" y="1125360"/>
            <a:ext cx="4927320" cy="26258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419640" y="4005360"/>
            <a:ext cx="4916160" cy="26146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684360" y="2565360"/>
            <a:ext cx="2104920" cy="1430280"/>
          </a:xfrm>
          <a:prstGeom prst="rect">
            <a:avLst/>
          </a:prstGeom>
          <a:ln w="0">
            <a:noFill/>
          </a:ln>
        </p:spPr>
      </p:pic>
      <p:grpSp>
        <p:nvGrpSpPr>
          <p:cNvPr id="114" name=""/>
          <p:cNvGrpSpPr/>
          <p:nvPr/>
        </p:nvGrpSpPr>
        <p:grpSpPr>
          <a:xfrm>
            <a:off x="239760" y="1846440"/>
            <a:ext cx="2211120" cy="1079280"/>
            <a:chOff x="239760" y="1846440"/>
            <a:chExt cx="2211120" cy="1079280"/>
          </a:xfrm>
        </p:grpSpPr>
        <p:sp>
          <p:nvSpPr>
            <p:cNvPr id="115" name=""/>
            <p:cNvSpPr/>
            <p:nvPr/>
          </p:nvSpPr>
          <p:spPr>
            <a:xfrm flipH="1">
              <a:off x="1258560" y="2133720"/>
              <a:ext cx="144360" cy="79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39760" y="1846440"/>
              <a:ext cx="2211120" cy="25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 algn="ctr"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Hidden stat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619280" y="2133720"/>
              <a:ext cx="144360" cy="79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63272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CS Learning Classifier System based on competitive neural layer (CXC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cket-brigade like output layer lear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umulation output layer lear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be applied for one-step and multi-step 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be easily mapped into other classifier systems, such as ZCS, A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gent-Environment Interf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268360" y="5805360"/>
          <a:ext cx="4680000" cy="54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68360" y="5805360"/>
                    <a:ext cx="4680000" cy="5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"/>
          <p:cNvGraphicFramePr/>
          <p:nvPr/>
        </p:nvGraphicFramePr>
        <p:xfrm>
          <a:off x="1835280" y="3933720"/>
          <a:ext cx="5400720" cy="1430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35280" y="3933720"/>
                    <a:ext cx="5400720" cy="143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" name=""/>
          <p:cNvGraphicFramePr/>
          <p:nvPr/>
        </p:nvGraphicFramePr>
        <p:xfrm>
          <a:off x="2556000" y="1197000"/>
          <a:ext cx="3889080" cy="2297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556000" y="1197000"/>
                    <a:ext cx="3889080" cy="229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sic Learning Classifier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042920" y="3141720"/>
          <a:ext cx="6985080" cy="320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3141720"/>
                    <a:ext cx="6985080" cy="32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" name=""/>
          <p:cNvSpPr/>
          <p:nvPr/>
        </p:nvSpPr>
        <p:spPr>
          <a:xfrm>
            <a:off x="1187280" y="1197000"/>
            <a:ext cx="691380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ach rule (classifier) is a state-action pair, IF &lt;condition&gt; THEN &lt;action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raditionall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us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 trinary representation, e.g.  01#11 : 010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# is a “wildcard” facilitating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eneralizati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- the rule above considers inputs 01111 and 01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sociated with each rule is a fitness parameter which indicates the rule’s ability to receive rew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nectionist Learning Classifier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1763640" y="1125360"/>
          <a:ext cx="5675400" cy="518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3640" y="1125360"/>
                    <a:ext cx="5675400" cy="518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of LCS mapping into CLCS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684360" y="2276640"/>
          <a:ext cx="3097080" cy="2761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2276640"/>
                    <a:ext cx="3097080" cy="276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"/>
          <p:cNvSpPr/>
          <p:nvPr/>
        </p:nvSpPr>
        <p:spPr>
          <a:xfrm>
            <a:off x="0" y="267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0" y="2685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0" y="2682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4643280" y="2328840"/>
          <a:ext cx="4032360" cy="2730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3280" y="2328840"/>
                    <a:ext cx="4032360" cy="273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"/>
          <p:cNvSpPr/>
          <p:nvPr/>
        </p:nvSpPr>
        <p:spPr>
          <a:xfrm>
            <a:off x="686520" y="512604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718880" y="510696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umulation output layer lea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0" y="174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1692360" y="2565360"/>
          <a:ext cx="6337080" cy="405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2360" y="2565360"/>
                    <a:ext cx="6337080" cy="405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" name=""/>
          <p:cNvGraphicFramePr/>
          <p:nvPr/>
        </p:nvGraphicFramePr>
        <p:xfrm>
          <a:off x="1646280" y="1117440"/>
          <a:ext cx="3909960" cy="1140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46280" y="1117440"/>
                    <a:ext cx="3909960" cy="114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5" name="" descr=""/>
          <p:cNvPicPr/>
          <p:nvPr/>
        </p:nvPicPr>
        <p:blipFill>
          <a:blip r:embed="rId5"/>
          <a:stretch/>
        </p:blipFill>
        <p:spPr>
          <a:xfrm>
            <a:off x="6732720" y="1125360"/>
            <a:ext cx="1798560" cy="17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cket-brigade like output layer lea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1332000" y="1484280"/>
          <a:ext cx="3857400" cy="81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1484280"/>
                    <a:ext cx="3857400" cy="81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" name=""/>
          <p:cNvSpPr/>
          <p:nvPr/>
        </p:nvSpPr>
        <p:spPr>
          <a:xfrm>
            <a:off x="0" y="174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0" y="2209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1258920" y="3141720"/>
          <a:ext cx="5545080" cy="2884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58920" y="3141720"/>
                    <a:ext cx="5545080" cy="288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3" name="" descr=""/>
          <p:cNvPicPr/>
          <p:nvPr/>
        </p:nvPicPr>
        <p:blipFill>
          <a:blip r:embed="rId5"/>
          <a:stretch/>
        </p:blipFill>
        <p:spPr>
          <a:xfrm>
            <a:off x="6659640" y="1197000"/>
            <a:ext cx="1798560" cy="172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CS: Classifier System based on Accura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547640" y="2249640"/>
            <a:ext cx="6337440" cy="376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nectionist X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76360" y="2060640"/>
            <a:ext cx="6362640" cy="39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23T16:34:50Z</dcterms:created>
  <dc:creator>Alexey Vasilyev</dc:creator>
  <dc:description/>
  <cp:keywords>Classifier Systems; Genetic Algorithms</cp:keywords>
  <dc:language>en-US</dc:language>
  <cp:lastModifiedBy>Alexey Vasilyev</cp:lastModifiedBy>
  <dcterms:modified xsi:type="dcterms:W3CDTF">2003-02-08T19:20:48Z</dcterms:modified>
  <cp:revision>52</cp:revision>
  <dc:subject>Classifier Systems</dc:subject>
  <dc:title>CONNECTIONIST CLASSIFIER SYSTEM BASED ON ACCURACY IN AUTONOMOUS AGENT CONTROL</dc:title>
</cp:coreProperties>
</file>