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1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F64-5FD4-4CB8-A5E9-856303A0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749-BD33-4BC1-B426-EFF4E4B5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AB8-BF01-44D4-A76C-55F262B7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4FC-B561-428D-BB34-3960BEDA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AD9-B737-4048-900C-3A484338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E33-BD17-40D7-BC0A-0676C737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821-3C1A-455E-A1F1-75EC2CC6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F47-C160-42B8-B581-566F594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D81-EDD7-4F1E-BF94-FF8ABD5D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A72-CA94-4D6E-BA1E-F740401C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068-40BF-492E-8AF4-9257B5DB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11D-F864-4EB0-A830-757601D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8B5-D515-4873-BF97-955FD3C62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ROXIMATION OF CONDITIONAL PROBABILITY FUNCTION USING ARTIFICIAL NEURAL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3572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ey Vasilyev and Andrei Kapishni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nt@apollo.lv, andrei@apollo.l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943520"/>
            <a:ext cx="540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Support Systems Group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a Technical Universit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4 Meza street, Rig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V-1048, Lat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dssg.cs.rtu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CD8-3E6C-4EEE-9A75-8F22BAF0F9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estimation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in clas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1985760"/>
            <a:ext cx="72010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Ve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0,  1,  A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0,  1,  A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0,  1,  B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1,  0,  A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1,  0,  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robabil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) = 2/3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) = 1/3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) = 1/2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) =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Neural network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6 i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 is fe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  i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0 is fe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output values correspond to the probabilities that the input vectors belong to class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ass B accordin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033560"/>
            <a:ext cx="7561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vectors in a form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, wher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inpu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parameters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lass to which the vector belong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55640" y="2276640"/>
            <a:ext cx="4392720" cy="865080"/>
            <a:chOff x="2555640" y="2276640"/>
            <a:chExt cx="4392720" cy="865080"/>
          </a:xfrm>
        </p:grpSpPr>
        <p:sp>
          <p:nvSpPr>
            <p:cNvPr id="49" name=""/>
            <p:cNvSpPr/>
            <p:nvPr/>
          </p:nvSpPr>
          <p:spPr>
            <a:xfrm flipH="1">
              <a:off x="2555640" y="2421000"/>
              <a:ext cx="1439640" cy="144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555640" y="2565360"/>
              <a:ext cx="1439640" cy="576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40360" y="227664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ntradictory vec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E99-FF24-4BBE-AD92-11AF7ADCCA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function approx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559640" cy="2395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1700280"/>
            <a:ext cx="72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lmogorov mapping neural network existence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of conditional probability function for two classes in a 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lass A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53A-F9BC-44E4-A223-3904E8A9AA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boCup test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257960" y="189000"/>
          <a:ext cx="18860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7960" y="189000"/>
                    <a:ext cx="18860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95280" y="1484280"/>
            <a:ext cx="4537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l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real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8x50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licies per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independent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y and limited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y action and object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gent s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inter-agent communication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ypes of agents with differen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ther 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64000" y="1773360"/>
            <a:ext cx="3409920" cy="3651120"/>
            <a:chOff x="5364000" y="1773360"/>
            <a:chExt cx="3409920" cy="3651120"/>
          </a:xfrm>
        </p:grpSpPr>
        <p:pic>
          <p:nvPicPr>
            <p:cNvPr id="61" name="" descr=""/>
            <p:cNvPicPr/>
            <p:nvPr/>
          </p:nvPicPr>
          <p:blipFill>
            <a:blip r:embed="rId14"/>
            <a:stretch/>
          </p:blipFill>
          <p:spPr>
            <a:xfrm>
              <a:off x="5387760" y="4372200"/>
              <a:ext cx="158148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5"/>
            <a:stretch/>
          </p:blipFill>
          <p:spPr>
            <a:xfrm>
              <a:off x="7621560" y="4364280"/>
              <a:ext cx="704880" cy="10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6"/>
            <a:srcRect l="0" t="21335" r="0" b="0"/>
            <a:stretch/>
          </p:blipFill>
          <p:spPr>
            <a:xfrm>
              <a:off x="5364000" y="3156120"/>
              <a:ext cx="162900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7"/>
            <a:stretch/>
          </p:blipFill>
          <p:spPr>
            <a:xfrm>
              <a:off x="7173720" y="1876680"/>
              <a:ext cx="1600200" cy="9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8"/>
            <a:stretch/>
          </p:blipFill>
          <p:spPr>
            <a:xfrm>
              <a:off x="7264440" y="3144960"/>
              <a:ext cx="14191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9"/>
            <a:srcRect l="0" t="0" r="0" b="19331"/>
            <a:stretch/>
          </p:blipFill>
          <p:spPr>
            <a:xfrm>
              <a:off x="5397480" y="1773360"/>
              <a:ext cx="156204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534-7130-40D3-AAD4-7C6D40FB76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ule-based agent behavi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3284640"/>
            <a:ext cx="6264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probability to score a goal is hig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ick the ball into the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probability to make a leading pass is hig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ke the leading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ribble with the ball towards the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773360"/>
            <a:ext cx="712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behaviour of the agents can be divided into sub-assignments and formulated in the form of rules. For example, the rule of the simplified behaviour of the agent when it has the ball can look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DBB-670F-47B1-A13C-FD40C54EA2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ShockwaveFlash1"/>
          <p:cNvGraphicFramePr/>
          <p:nvPr/>
        </p:nvGraphicFramePr>
        <p:xfrm>
          <a:off x="1778040" y="3174840"/>
          <a:ext cx="571500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3174840"/>
                    <a:ext cx="5715000" cy="3556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Evaluation of scoring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0" t="0" r="0" b="54686"/>
          <a:stretch/>
        </p:blipFill>
        <p:spPr>
          <a:xfrm>
            <a:off x="1116000" y="836640"/>
            <a:ext cx="7086600" cy="22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D8D-1537-422D-9424-8F5FA30637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ShockwaveFlash1"/>
          <p:cNvGraphicFramePr/>
          <p:nvPr/>
        </p:nvGraphicFramePr>
        <p:xfrm>
          <a:off x="1778040" y="3174840"/>
          <a:ext cx="571500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3174840"/>
                    <a:ext cx="5715000" cy="3556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Evaluation of pass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0" t="47978" r="0" b="0"/>
          <a:stretch/>
        </p:blipFill>
        <p:spPr>
          <a:xfrm>
            <a:off x="1403280" y="692280"/>
            <a:ext cx="6532560" cy="24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3DA-2460-4BD4-9305-56BB05C37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ShockwaveFlash1"/>
          <p:cNvGraphicFramePr/>
          <p:nvPr/>
        </p:nvGraphicFramePr>
        <p:xfrm>
          <a:off x="507960" y="1015920"/>
          <a:ext cx="82551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015920"/>
                    <a:ext cx="825516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Football 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C92-36FD-4E26-AE90-1CADF801D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691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n that multilayer perceptron can be successfully applied for estimating conditional probability when source data contains contradicto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he approach has bee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lied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oboCup test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37E-EE8E-4C6F-8A1F-34AE021134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6:34:50Z</dcterms:created>
  <dc:creator>Alexey Vasilyev</dc:creator>
  <dc:description/>
  <cp:keywords>Classifier Systems; Genetic Algorithms</cp:keywords>
  <dc:language>en-US</dc:language>
  <cp:lastModifiedBy>Alexey Vasilyev</cp:lastModifiedBy>
  <dcterms:modified xsi:type="dcterms:W3CDTF">2003-05-14T12:36:19Z</dcterms:modified>
  <cp:revision>75</cp:revision>
  <dc:subject>Classifier Systems</dc:subject>
  <dc:title>CONNECTIONIST CLASSIFIER SYSTEM BASED ON ACCURACY IN AUTONOMOUS AGENT CONTROL</dc:title>
</cp:coreProperties>
</file>