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79A8-4B26-463A-877D-8FEDE2EE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29C0-08E2-4A02-9AFB-6C760B4C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2496-F416-4102-83F3-3419D61F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2C63-4D8A-49C0-997C-C335B285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B9AF-7BC7-410A-A2C5-01EA6BB5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AADD-D879-48CA-AD55-B99302C4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A80F-C4C6-44B9-AE58-FCD63EAF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10CA-65A6-4E30-97F9-EF30A8EB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DAB6-7CA3-4F08-9125-C6F70827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2637-99D0-4AFD-B0CF-41E7E60F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A46B-C87E-4C23-9F07-1770DA84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EC63-74AF-4C4B-9397-990F94C9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79D2-0D5A-4FAB-9FBD-D37976574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УЧАЮЩАЯСЯ СИСТЕМА, ИСПОЛЬЗУЮЩАЯ ЧАСТИЧНУЮ МОДЕЛЬ 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19640" y="242028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сильев Алек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3640" y="4365000"/>
            <a:ext cx="295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 Транспорта и Связ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моносова 1, Рига, LV-1019, Латв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ervent@apollo.l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6236640"/>
            <a:ext cx="867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материалам работы на соискание академической степени магистра компьютерных наук по тем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ергетический подход в адаптивных система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.С.Васильева под научным руководством проф. А.Н.Борисова, ИТС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5589720"/>
            <a:ext cx="88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ючевые сло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даптивное поведени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стемы классификатор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учение с подкрепл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ивация классификаторов с использованием модели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3933720"/>
            <a:ext cx="59054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имер, если агент находится в состоянии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имеет соседние к текущему состоянию значения вероятностей переходов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то для классификатор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ида &lt;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способленнос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gt;  значение параметра приспособленност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ычисляется следующим образ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923000" cy="2325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124080" y="5410080"/>
            <a:ext cx="3049560" cy="10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овая ср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796000" y="1268280"/>
            <a:ext cx="2371680" cy="1838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3959280" cy="3176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237168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47242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бири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9080" y="3213000"/>
            <a:ext cx="38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пределение подсказок (2 пу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60360" y="6021360"/>
            <a:ext cx="38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пределение подсказок (4 пу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зводительность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7894800" cy="241920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5535720" y="3753000"/>
            <a:ext cx="2393640" cy="726120"/>
            <a:chOff x="5535720" y="3753000"/>
            <a:chExt cx="2393640" cy="726120"/>
          </a:xfrm>
        </p:grpSpPr>
        <p:sp>
          <p:nvSpPr>
            <p:cNvPr id="105" name=""/>
            <p:cNvSpPr/>
            <p:nvPr/>
          </p:nvSpPr>
          <p:spPr>
            <a:xfrm>
              <a:off x="5535720" y="3753000"/>
              <a:ext cx="476280" cy="471240"/>
            </a:xfrm>
            <a:custGeom>
              <a:avLst/>
              <a:gdLst/>
              <a:ahLst/>
              <a:rect l="l" t="t" r="r" b="b"/>
              <a:pathLst>
                <a:path w="300" h="297">
                  <a:moveTo>
                    <a:pt x="300" y="297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71080" y="4221000"/>
              <a:ext cx="22582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С моделью сред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454360" y="1989000"/>
            <a:ext cx="2290320" cy="719280"/>
            <a:chOff x="5454360" y="1989000"/>
            <a:chExt cx="2290320" cy="719280"/>
          </a:xfrm>
        </p:grpSpPr>
        <p:sp>
          <p:nvSpPr>
            <p:cNvPr id="108" name=""/>
            <p:cNvSpPr/>
            <p:nvPr/>
          </p:nvSpPr>
          <p:spPr>
            <a:xfrm flipH="1">
              <a:off x="5580000" y="2205000"/>
              <a:ext cx="216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54360" y="1989000"/>
              <a:ext cx="22903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Без модели сред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34544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ена новая адаптивная система классификаторов использующая для принятия решений как сенсорную модель, так и модель среды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ь среды может быть частичной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м где отсутствует информация о модели среды, т.е. вероятность перехода из состоян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седнее состояни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 система принимает решения, основываясь на сенсорной информации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отестированных немарковских средах система показывает квази-оптимальные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2286000"/>
            <a:ext cx="7634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гент (робот, программа, брокер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реда (лабиринт, Интернет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экономическая мод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ап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п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95280" y="4149720"/>
            <a:ext cx="8282160" cy="2344680"/>
            <a:chOff x="395280" y="4149720"/>
            <a:chExt cx="8282160" cy="2344680"/>
          </a:xfrm>
        </p:grpSpPr>
        <p:sp>
          <p:nvSpPr>
            <p:cNvPr id="50" name=""/>
            <p:cNvSpPr/>
            <p:nvPr/>
          </p:nvSpPr>
          <p:spPr>
            <a:xfrm>
              <a:off x="395280" y="4149720"/>
              <a:ext cx="5905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0000"/>
                  </a:solidFill>
                  <a:latin typeface="Arial"/>
                </a:rPr>
                <a:t>Обучение с подкреплением </a:t>
              </a:r>
              <a:r>
                <a:rPr b="0" lang="en-US" sz="2000" spc="-1" strike="noStrike">
                  <a:solidFill>
                    <a:srgbClr val="8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800000"/>
                  </a:solidFill>
                  <a:latin typeface="Arial"/>
                </a:rPr>
                <a:t>reinforcement</a:t>
              </a:r>
              <a:r>
                <a:rPr b="0" lang="en-US" sz="2000" spc="-1" strike="noStrike">
                  <a:solidFill>
                    <a:srgbClr val="8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1116000" y="4797360"/>
              <a:ext cx="7561440" cy="169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457200" y="1219320"/>
            <a:ext cx="8291520" cy="2270160"/>
            <a:chOff x="457200" y="1219320"/>
            <a:chExt cx="8291520" cy="2270160"/>
          </a:xfrm>
        </p:grpSpPr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>
              <a:off x="826920" y="1844640"/>
              <a:ext cx="7921800" cy="16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57200" y="1219320"/>
              <a:ext cx="510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Arial"/>
                </a:rPr>
                <a:t>  </a:t>
              </a:r>
              <a:r>
                <a:rPr b="0" lang="ru-RU" sz="2000" spc="-1" strike="noStrike">
                  <a:solidFill>
                    <a:srgbClr val="800000"/>
                  </a:solidFill>
                  <a:latin typeface="Arial"/>
                </a:rPr>
                <a:t>Обучение с учителем </a:t>
              </a:r>
              <a:r>
                <a:rPr b="0" lang="en-US" sz="2000" spc="-1" strike="noStrike">
                  <a:solidFill>
                    <a:srgbClr val="8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800000"/>
                  </a:solidFill>
                  <a:latin typeface="Arial"/>
                </a:rPr>
                <a:t>supervised</a:t>
              </a:r>
              <a:r>
                <a:rPr b="0" lang="en-US" sz="2000" spc="-1" strike="noStrike">
                  <a:solidFill>
                    <a:srgbClr val="8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аимодействие агента со сре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268360" y="5805360"/>
          <a:ext cx="468000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5805360"/>
                    <a:ext cx="46800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1835280" y="3994200"/>
          <a:ext cx="5400720" cy="13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994200"/>
                    <a:ext cx="540072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195640" y="1268280"/>
            <a:ext cx="46083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а Аним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119400" cy="3147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60360" y="508464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бири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9240" y="407664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ген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3440" y="407664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в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г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80360" y="407664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нсорное восприятие аг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500720" cy="1805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79640" y="1700280"/>
            <a:ext cx="1152360" cy="115236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99400">
            <a:off x="2838240" y="1168560"/>
            <a:ext cx="6121080" cy="1081080"/>
          </a:xfrm>
          <a:custGeom>
            <a:avLst/>
            <a:gdLst>
              <a:gd name="textAreaLeft" fmla="*/ 1275120 w 6121080"/>
              <a:gd name="textAreaRight" fmla="*/ 4197240 w 6121080"/>
              <a:gd name="textAreaTop" fmla="*/ 144720 h 1081080"/>
              <a:gd name="textAreaBottom" fmla="*/ 93636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01" hR="21600" stAng="10800000" swAng="5400000"/>
                <a:lnTo>
                  <a:pt x="10311" y="0"/>
                </a:lnTo>
                <a:arcTo wR="9001" hR="21600" stAng="-5400000" swAng="2910984"/>
                <a:lnTo>
                  <a:pt x="21045" y="14132"/>
                </a:lnTo>
                <a:lnTo>
                  <a:pt x="18657" y="21600"/>
                </a:lnTo>
                <a:lnTo>
                  <a:pt x="15159" y="14132"/>
                </a:lnTo>
                <a:lnTo>
                  <a:pt x="17447" y="14132"/>
                </a:lnTo>
                <a:arcTo wR="9001" hR="21600" stAng="-2489016" swAng="-2806493"/>
                <a:lnTo>
                  <a:pt x="9656" y="57"/>
                </a:lnTo>
                <a:arcTo wR="9001" hR="21600" stAng="-5504491" swAng="-5295509"/>
                <a:close/>
              </a:path>
              <a:path fill="darkenLess" w="21600" h="21600">
                <a:moveTo>
                  <a:pt x="0" y="21600"/>
                </a:moveTo>
                <a:arcTo wR="9001" hR="21600" stAng="10800000" swAng="5400000"/>
                <a:lnTo>
                  <a:pt x="9001" y="0"/>
                </a:lnTo>
                <a:arcTo wR="9001" hR="21600" stAng="-5400000" swAng="104491"/>
                <a:lnTo>
                  <a:pt x="9656" y="57"/>
                </a:lnTo>
                <a:arcTo wR="9001" hR="21600" stAng="-5504491" swAng="-529550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63840" y="2241720"/>
            <a:ext cx="142920" cy="1443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777440" cy="4503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вигация с помощью сенсорной модел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модели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04720" y="60213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дель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99240" y="602136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нсорная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16360" y="1628640"/>
            <a:ext cx="935280" cy="792360"/>
          </a:xfrm>
          <a:prstGeom prst="ellipse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32000" y="3573360"/>
            <a:ext cx="1584360" cy="1224000"/>
          </a:xfrm>
          <a:prstGeom prst="ellipse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812000" y="3500280"/>
            <a:ext cx="936720" cy="1008360"/>
          </a:xfrm>
          <a:prstGeom prst="ellipse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ическая система классифика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1197000"/>
            <a:ext cx="6769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 классификаторов состоит из популяции прави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ждое правил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ассификато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пара состояние-действ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&lt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THEN &lt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адиционно используют третичное представл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01#11 : 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мвол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n’t car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еспечива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бобщ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рхнее правило покрывает вход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01111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01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каждым правилом ассоциирован параметр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способленнос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показывающий способность правила получать награ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ьзует только сенсорную мод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1187280" y="3500280"/>
            <a:ext cx="669780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онирование 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ShockwaveFlash2"/>
          <p:cNvGraphicFramePr/>
          <p:nvPr/>
        </p:nvGraphicFramePr>
        <p:xfrm>
          <a:off x="179280" y="1052640"/>
          <a:ext cx="896328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ShockwaveFlash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896328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а классификаторов, использующая частичную модель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5764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46748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6:34:50Z</dcterms:created>
  <dc:creator>Alexey Vasilyev</dc:creator>
  <dc:description/>
  <cp:keywords>Classifier Systems;Adaptive Behaviour</cp:keywords>
  <dc:language>en-US</dc:language>
  <cp:lastModifiedBy>Alexey Vasilyev</cp:lastModifiedBy>
  <dcterms:modified xsi:type="dcterms:W3CDTF">2002-05-03T04:53:54Z</dcterms:modified>
  <cp:revision>96</cp:revision>
  <dc:subject>Classifier Systems</dc:subject>
  <dc:title>Learning system uses Model of Environment</dc:title>
</cp:coreProperties>
</file>